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ct" ContentType="image/x-pict"/>
  <Override PartName="/ppt/media/image10.pct" ContentType="image/x-pict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9.pct" ContentType="image/x-pict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78F-D74B-4CCA-BF66-53D5DAA7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238-CA6E-4F2A-9245-44DC200F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AA3-C267-4031-977A-E248E5BE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C80-C98C-4425-9B6D-EC0B3909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2D29-F843-48D6-92C9-057B7462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1525-2DF0-4CD8-8ABD-6F8B3D4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8C16-A0F8-47D4-B3DB-F9819C35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F63-4594-424C-BB77-F643A55D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1FE2-C0AA-4301-9360-9376C7D8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F6E4-576D-4158-B660-4CC9ABF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2A3D-F2E5-4EEF-AB75-BA2BCBF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422-80A5-4440-A875-C3C58F4E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BAD5-8599-4EED-A5A9-F9C413A8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FEF4-9F4B-4BFB-B8F3-67964FE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505-51A4-42A0-BA84-58730C7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510-4B81-4937-8005-3373BE74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39C-E26A-46F1-B902-59BE24F9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995-4269-46E2-A0B9-3FB7990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5A9-ED32-47F8-A4D2-8BCB3A39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9D9-D616-4E23-AB15-14685AC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C47-BF25-4329-A6EF-E4AFE304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4E8-7FFA-4C8F-A7EB-A43B7BF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EFF-1EDD-4953-A052-98D6E29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B59-C004-416A-8B29-056B56E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507-3D8F-452E-93C1-B0897CBFE00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E1E-069F-4B71-93C6-76D706EDBB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5532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tmosphere"/>
                <a:ea typeface="DotumChe"/>
              </a:rPr>
              <a:t>The Future of Pow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tmosphere"/>
              </a:rPr>
              <a:t>Fuel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22520" y="1600200"/>
            <a:ext cx="40975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41680" y="1600200"/>
            <a:ext cx="386064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Hydrogen Power Part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7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emission is w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is easy to obtain from w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etical efficiency: 75% to 8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uble rarely occu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idental combu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kage (Solid metal tank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Hydrogen Power Pt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stic efficiency only reaches about 18% to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from water isn’t enough and must be obtained other ways which may result in increase of other harmful g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in the gas  form is tough because of the energy density. In a liquid form, hydrogen operates more effectively but storing it requires high pressure and low temperatures thus making it more difficul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much more expensive than fuel cars due to the complex machines that help store, moderate and move hydrogen through the c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urities tend to ruin the chemical catalyst rendering lower efficiency and life expecta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Hydrogen On Demand” Stor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lenium Cell is the leader in developing sodium borohydride-based energy sources. Using a proprietary catalyst, “Hydrogen on Demand” systems can support a range of applications from personal electronics to transport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dium borohydride (NaBH4) is a compound with very high hydrogen content. When NaBH4 is in an aqueous solution and then passed over a catalyst, it produces a large amount of hydrogen, along with a benign can be recycled back into sodium borohyd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 very costly however. Sodium borohydride, not currently a popular chemical reagent, is expensive to purchase, and it is unknown whether the price would decrease enough to be cost efficient if used in fuel cell hydrogen stor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00200" y="609480"/>
            <a:ext cx="5943600" cy="519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Solar Fuel Ce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ly converts sunlight into electrical pow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radiation reaches the earth’s upper atmosphere at a rate of 1366 watts per square me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een from above, the Sun is really power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gent for producing electricity is silicon although other semi conductors are being tested cur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276720" cy="2131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Solar- Pros/C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 field of panels can supply a tow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vely cheap compared to other metho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bsolutely no emissions except when manufacturing the cell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ergy ratio (energy used to energy produced) is about 5.6 tim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alistic efficiency reaches peak at 28%, normally around 16% to 19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ts of variables affect the performance of the cells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ea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hadow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otonic Pow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ystal Defec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Compari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64568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Comparison pt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3800" y="1738440"/>
            <a:ext cx="8096400" cy="387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egata"/>
              </a:rPr>
              <a:t>What are Fuel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5181120"/>
            <a:ext cx="678204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ectrochemical conversion devi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 fuel cell a battery that does not need recharging. Batteries produce electricity from electrochemical reactions inside the battery.  But batteries have a limiting amount of reactants.  Once reactants run out-battery dea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tteries store energy.  As long as hydrogen and oxygen is supplied, fuel cell can continually produce energy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Future of fuel ce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ready being used in smaller devices (cell phones, laptops, mp3 player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close to zero emissions, definitely will be 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too difficult to store and too expensive to produ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is going on to bring efficiency up to +9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Fuel cell diagra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27076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Why Fuel cells?</a:t>
            </a: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Efficien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quires less maintenance, doesn’t overheat, no moving pa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issions are less harm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el cell electricity plants create 1 ounce of pollution vs. internal combustion electricity plants create 25 pounds of pollu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ar zero harmful gases such as Carbon Monoxide, Carbon Dioxide, Nitrous Oxides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ergy ratings are higher than fossil fue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ergy flow in automobiles are greater than combustion ca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reach 0 mph to 60 mph in less than 4-6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Application of Fuel Ce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ationar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wer Pla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pacecraf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itary Appl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uilding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mote Lo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ackup Pow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ehicula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ectric/Hybrid Ca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itary Vehic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blic Transport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632040" cy="2873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38720" y="1765440"/>
            <a:ext cx="285768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Hydrogen Power Step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Step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Step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105520" cy="4589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Step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10080" cy="4863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0:27:18Z</dcterms:created>
  <dc:creator>Sijia Qiu</dc:creator>
  <dc:description/>
  <dc:language>en-US</dc:language>
  <cp:lastModifiedBy>Punahou School</cp:lastModifiedBy>
  <dcterms:modified xsi:type="dcterms:W3CDTF">2007-04-03T18:29:03Z</dcterms:modified>
  <cp:revision>8</cp:revision>
  <dc:subject/>
  <dc:title>The Future of Power</dc:title>
</cp:coreProperties>
</file>